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1F7-1FD9-4B2E-862D-654D1D3A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29E5-21EE-4922-936F-B272D674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1179-DD45-45AF-8A4D-129DEB2F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340F-8C05-4166-8D78-C2B3881B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C257-848B-4199-A585-9FBA2BFE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0E4-7179-4B18-89FE-974637B9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DB1-C3AF-40E4-9AFF-D2DA2835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777-08B4-453F-A27A-744FF48A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44C-F3A7-462B-B212-AEB46383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20B-6F8E-4FBB-8529-63F40233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5255-7139-4C63-A076-4C81DD7E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825-127E-47FC-8BF2-EA2958CC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B125-76A4-47C4-81B8-5D8C77FFA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23081" r="0" b="23081"/>
          <a:stretch/>
        </p:blipFill>
        <p:spPr>
          <a:xfrm>
            <a:off x="114480" y="69840"/>
            <a:ext cx="8921520" cy="672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міна коефіцієнтів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ндекс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головному вікні програми оберіть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еню «Списки», «Збірники ці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32000" y="3645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2222E-006 L -0.13195 -0.26713 E">
                                      <p:cBhvr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беріть запис з збірником цін 2001 року та натисніть кнопку «Коефіцієнти індексації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67280" y="350028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-0.0059 -0.07801 E">
                                      <p:cBhvr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ведіть дані що до індекс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40360" y="2997360"/>
            <a:ext cx="10764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33333E-006 L -0.04531 0.0375 E">
                                      <p:cBhvr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01.01.2008, Індексація розцінок,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061*0.994*1.082*1.123*1.103*1.116*1.16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356000" y="42926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22222E-006 L -0.01371 0.06898 E">
                                      <p:cBhvr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 редагуванні параметрів кошторису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тисніть кнопк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ефіцієнт індексації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32000" y="2637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0.11215 -0.03611 E">
                                      <p:cBhvr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гляд коштор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11640" y="2421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4444E-006 L -0.11614 -0.00463 E">
                                      <p:cBhvr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9:10:19Z</dcterms:created>
  <dc:creator>Sergio</dc:creator>
  <dc:description/>
  <dc:language>en-US</dc:language>
  <cp:lastModifiedBy>Sergio</cp:lastModifiedBy>
  <dcterms:modified xsi:type="dcterms:W3CDTF">2008-09-23T09:54:12Z</dcterms:modified>
  <cp:revision>6</cp:revision>
  <dc:subject/>
  <dc:title>Слайд 1</dc:title>
</cp:coreProperties>
</file>