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C7E-5B4C-4B6F-86BB-01B77C87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86E-6786-4A3B-8E5E-C96BF787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2F0-1EB6-4E56-A320-4B25ADCC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72B-5610-4703-B01C-9EACB281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A4F-8200-4ACD-BF21-1A49E570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CA5-3343-4460-AEE2-5B05E7C2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113-B7A7-4B10-B0AD-CE419638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F8E-83EC-43C6-A147-AB124CC8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81C-81A3-45E5-947F-6CDAF116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259-192D-4E68-9F7F-A851015C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AA3-980D-4DBC-876C-5D52096F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147-62B3-49CE-8815-004E7F74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3F3844-F30B-4FEE-99E2-20F6DD494AE0}" type="slidenum">
              <a: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9120" y="2276640"/>
            <a:ext cx="864396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112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В ОТКРЫВШЕМСЯ ОКНЕ МОЖНО ТОЧНО ЗАДАТЬ КООРДИНАТЫ МАРКЕРА И ЕГО ПОЛОЖЕНИЕ НА РАС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817640" y="1490760"/>
            <a:ext cx="5562720" cy="46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cc3300"/>
                </a:solidFill>
                <a:latin typeface="Arial"/>
              </a:rPr>
              <a:t>В ПАНЕЛИ “ГРАНИЦЫ РАСТРА” МОЖНО УКАЗАТЬ ТОЧНЫЕ ГРАНИЦЫ ОБРЕЗКИ РА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623960" y="3379680"/>
            <a:ext cx="5972400" cy="4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cc3300"/>
                </a:solidFill>
                <a:latin typeface="Arial"/>
              </a:rPr>
              <a:t>ПОЛУЧАЕМ ЗАКООРДИНИРОВАНЫЙ РА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89080" y="1079640"/>
            <a:ext cx="864072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ЕСЛИ РАСТР ЗАКООРДИНИРОВАН В ГРАДУСАХ, ДЛЯ РАСТРОВОГО СЛОЯ МОЖЕТ ПОТРЕБОВАТЬСЯ ЗАДАТЬ ПРОЕК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9640" y="1260360"/>
            <a:ext cx="83520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ba9"/>
            </a:gs>
            <a:gs pos="100000">
              <a:srgbClr val="9eb5d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92360" y="263700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9dced"/>
                </a:solidFill>
                <a:latin typeface="Times New Roman"/>
              </a:rPr>
              <a:t>WWW.SHELS.COM.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350028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c9dced"/>
                </a:solidFill>
                <a:latin typeface="Times New Roman"/>
              </a:rPr>
              <a:t>ГЕОДЕЗИЧЕСКАЯ ИНФОРМАЦИОННАЯ СИСТЕМА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00536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9dced"/>
                </a:solidFill>
                <a:latin typeface="Arial"/>
              </a:rPr>
              <a:t>mgr</a:t>
            </a:r>
            <a:r>
              <a:rPr b="0" lang="en-US" sz="2000" spc="-1" strike="noStrike">
                <a:solidFill>
                  <a:srgbClr val="c9dced"/>
                </a:solidFill>
                <a:latin typeface="Times New Roman"/>
              </a:rPr>
              <a:t>@gis.org.u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9dced"/>
                </a:solidFill>
                <a:latin typeface="Times New Roman"/>
              </a:rPr>
              <a:t>+38050 598-50-40</a:t>
            </a:r>
            <a:r>
              <a:rPr b="0" lang="en-US" sz="2000" spc="-1" strike="noStrike">
                <a:solidFill>
                  <a:srgbClr val="c9dce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07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еодезическая Информационная Система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384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ДКЛЮЧЕНИЕ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И КООРДИНИРОВАНИЕ РАСТР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НЕОБХОДИМО ОТКРЫТЬ ОКНО «КАР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11080" y="1251000"/>
            <a:ext cx="759636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НАЖМИТЕ МЕНЮ «СЛОЙ», «СОЗДАТЬ», «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ИЗОБРАЖЕНИ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28720" y="1219320"/>
            <a:ext cx="75596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НАЖМИТЕ ПРАВОЙ КНОПКОЙ ПО СЛОЮ И В ОТКРЫВШЕМСЯ МЕНЮ ВЫБЕРИТЕ ПУНКТ “ОТКРЫТЬ ИЗОБРАЖЕН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96920" y="1297080"/>
            <a:ext cx="520236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ВЫБЕРИТЕ РАСТР ДЛЯ КООРДИНИРОВАНИЯ. ЕСТЬ ДВА ВАРИАНТА КООРДИНИРОВАНИЯ РАСТРА: ВПИСАТЬ В ОКНО И КООРДИНИРОВАТЬ В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886040" y="1274760"/>
            <a:ext cx="544824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ВЫБЕРИТЕ ВАРИАНТ “КООРДИНИРОВАНИЕ ВРУЧНУЮ”. ОТКРОЕТСЯ ОКНО “КООРДИНИРОВАНИЕ ИЗОБРАЖЕНИ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735200" y="1251000"/>
            <a:ext cx="57499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cc3300"/>
                </a:solidFill>
                <a:latin typeface="Arial"/>
              </a:rPr>
              <a:t>ЧТОБЫ ЗАДАТЬ ТОЧНЫЕ КООРДИНАТЫ КОНТРОЛЬНОЙ ТОЧКИ, ПЕРЕТАЩИТЕ МАРКЕР В НУЖНУЮ ТОЧКУ РАСТРА И КЛИКНИТЕ ПРАВОЙ КНОПКОЙ МЫШИ ПО МАРКЕРУ. В МЕНЮ ВЫБЕРИТЕ ПУНКТ “ИЗМЕНИТЬ КОНТРОЛЬНУЮ ТОЧКУ”. В ЭТОМ ЖЕ МЕНЮ МОЖНО УСТАНОВИТЬ ОБРЕЗКУ ПО МАРКЕРУ, ВЫБРАВ ПУНКТ “ОБРЕЗАТЬ СЛЕВА-СВЕРХУ” ИЛИ “ОБРЕЗАТЬ СПРАВА-СНИЗУ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448000" y="1841400"/>
            <a:ext cx="4324320" cy="356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05:57Z</dcterms:created>
  <dc:creator>Sergey Shelkovnikov</dc:creator>
  <dc:description/>
  <dc:language>en-US</dc:language>
  <cp:lastModifiedBy>ShelS</cp:lastModifiedBy>
  <dcterms:modified xsi:type="dcterms:W3CDTF">2011-02-28T07:22:40Z</dcterms:modified>
  <cp:revision>87</cp:revision>
  <dc:subject/>
  <dc:title>Geodetic Information System 6</dc:title>
</cp:coreProperties>
</file>