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34A-3715-4DFA-BD58-FBAC4CD6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C67C-E889-4B7D-ABA1-AEA284E4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DF2-E640-4FB4-A3F2-74812A38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69B-41F2-46C5-BF73-3396BF7B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7B5-B80D-4443-AE9A-4423321E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3C9-2663-47FF-9298-3906C5F8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179-64D4-4405-9047-3679F851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F4C5-C43A-4B3A-8D31-456F04E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6A0-1849-4ACC-9AF6-4292B112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178-18C2-495F-8401-78CD92B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C2B-EB8C-4623-8E94-44774FA9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FCD-D6EF-414A-9B0A-D9FB231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874C-626B-4260-B11E-96D04BBCB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еодезическая информационная система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7800" y="10526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ратная геодезичекая 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093080" y="31417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8936E-007 L -0.17136 0.24728 E">
                                      <p:cBhvr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88000" y="234936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7.00902E-007 L -0.07673 0.2681 E">
                                      <p:cBhvr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429264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8848E-006 L 0.43507 -0.58154 E">
                                      <p:cBhvr>
                                        <p:cTn id="5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172360" y="33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23155E-006 L -0.4408 0.06339 E">
                                      <p:cBhvr>
                                        <p:cTn id="60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89240" y="7570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10363E-006 L -0.08698 0.02799 E">
                                      <p:cBhvr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51160" y="9302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31853E-007 L -0.16858 0.41198 E">
                                      <p:cBhvr>
                                        <p:cTn id="7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92360" y="4005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74880" y="40165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74880" y="40165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24000" y="4005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6088E-006 L 0.24584 -0.52094 E">
                                      <p:cBhvr>
                                        <p:cTn id="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3645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9202E-006 L 0.021 -0.41615 E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371840" y="4111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04719E-006 L 0.04583 0.09206 E">
                                      <p:cBhvr>
                                        <p:cTn id="8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51280" y="9907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6.01434E-008 L -0.06979 0.18136 E">
                                      <p:cBhvr>
                                        <p:cTn id="9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27400" y="2206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8744E-006 L 0.07083 0.06292 E">
                                      <p:cBhvr>
                                        <p:cTn id="9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360" y="2637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6694E-007 L -0.06354 -0.10109 E">
                                      <p:cBhvr>
                                        <p:cTn id="1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178160" y="19922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51145E-006 L 0.43767 -0.23548 E">
                                      <p:cBhvr>
                                        <p:cTn id="1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169120" y="32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169120" y="32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7266E-006 L -0.52292 0.05968 E">
                                      <p:cBhvr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14600" y="712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8721E-006 L 0.40417 0.33888 E">
                                      <p:cBhvr>
                                        <p:cTn id="120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093080" y="301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1337E-006 L -0.16667 0.0391 E">
                                      <p:cBhvr>
                                        <p:cTn id="126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586480" y="327168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8989E-006 L -0.25 -0.36965 E">
                                      <p:cBhvr>
                                        <p:cTn id="13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316320" y="7542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25468E-006 L 0.03298 0.1765 E">
                                      <p:cBhvr>
                                        <p:cTn id="13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06840" y="1925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391E-006 L 0.0625 -0.21698 E">
                                      <p:cBhvr>
                                        <p:cTn id="14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165560" y="4302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80291E-006 L 0.04635 0.24358 E"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7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34800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0058E-006 L -0.20278 -2.50058E-006 E">
                                      <p:cBhvr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5680" y="76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0058E-006 L 0.39809 0.14226 E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49680" y="18558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35280" y="18446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6.73144E-007 L -0.10816 0.05852 E"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21080" y="234792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1994E-007 L 0.03159 0.14943 E">
                                      <p:cBhvr>
                                        <p:cTn id="3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66960" y="333684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6463E-006 L 0.475 -0.03308 E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6:44:28Z</dcterms:created>
  <dc:creator>Sergio</dc:creator>
  <dc:description/>
  <dc:language>en-US</dc:language>
  <cp:lastModifiedBy>Sergio</cp:lastModifiedBy>
  <dcterms:modified xsi:type="dcterms:W3CDTF">2006-04-04T08:17:56Z</dcterms:modified>
  <cp:revision>6</cp:revision>
  <dc:subject/>
  <dc:title>Слайд 1</dc:title>
</cp:coreProperties>
</file>