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E10F-E0FE-4A39-831E-EAC1538495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зентация возможностей системы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дезическая информационная система предназначена для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регистрации собственности и пользования земельной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н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х предусмотренных Украинским законодательством государственных актов и договоров на земельные участки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работ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еодезической информации начиная с импорта GPS 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хеометрическо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ъёмки, обработкой координат и заканчивая формированием участка для печати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бор и анализ внутрихозяйственного устройства (угодья, сооружения, здания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сбор и анализ почвенной характеристики грунтов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ой оценки сельскохозяйственных угоди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евания с/х угоди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78E9-7A95-4456-83D5-C8D58BE9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97FD-8D64-4D19-B7DA-6EF2C4EE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635F-F1F2-410E-8884-294858B89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B421-F482-45D5-BC46-0DE6F3C0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2F22-1390-4B01-896C-0E0B239B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B485-5D02-4A9D-AB7E-DB8D2E7F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5F0F-3513-45A2-B7E2-E96381CA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C2DD-BF85-4E78-BB02-75B80D59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6032-6E31-4933-BB35-2219A3DB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A8FC-2C88-4605-ADC9-A80B80F9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3A47-B9EB-4318-BA5C-313DB3C4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2A8E-A843-409D-9449-FD5E2C56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F763-28DE-4C77-86D4-0B6E8CDE6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hyperlink" Target="mailto:sshelkovnikov@yahoo.co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Gis5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4535640" cy="4179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odetic Information System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.5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3429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S v.5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102888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image003" descr=""/>
          <p:cNvPicPr/>
          <p:nvPr/>
        </p:nvPicPr>
        <p:blipFill>
          <a:blip r:embed="rId1"/>
          <a:stretch/>
        </p:blipFill>
        <p:spPr>
          <a:xfrm>
            <a:off x="209520" y="1714680"/>
            <a:ext cx="2195640" cy="164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9600" y="337500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гистрация прав на земл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image007" descr=""/>
          <p:cNvPicPr/>
          <p:nvPr/>
        </p:nvPicPr>
        <p:blipFill>
          <a:blip r:embed="rId2"/>
          <a:stretch/>
        </p:blipFill>
        <p:spPr>
          <a:xfrm>
            <a:off x="5067360" y="4229280"/>
            <a:ext cx="2195280" cy="1645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876920" y="590544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ектирование и паевани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/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год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image012" descr=""/>
          <p:cNvPicPr/>
          <p:nvPr/>
        </p:nvPicPr>
        <p:blipFill>
          <a:blip r:embed="rId3"/>
          <a:stretch/>
        </p:blipFill>
        <p:spPr>
          <a:xfrm>
            <a:off x="6743880" y="1714680"/>
            <a:ext cx="2201760" cy="1652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58000" y="337824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ормирование документ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image013" descr=""/>
          <p:cNvPicPr/>
          <p:nvPr/>
        </p:nvPicPr>
        <p:blipFill>
          <a:blip r:embed="rId4"/>
          <a:stretch/>
        </p:blipFill>
        <p:spPr>
          <a:xfrm>
            <a:off x="1886040" y="4229280"/>
            <a:ext cx="2195280" cy="164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43280" y="5889600"/>
            <a:ext cx="209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нежная оценка 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 угод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00360" y="33750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меральные рабо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image014" descr=""/>
          <p:cNvPicPr/>
          <p:nvPr/>
        </p:nvPicPr>
        <p:blipFill>
          <a:blip r:embed="rId5"/>
          <a:stretch/>
        </p:blipFill>
        <p:spPr>
          <a:xfrm>
            <a:off x="3486240" y="1717560"/>
            <a:ext cx="2195280" cy="1646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95280" y="10288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0288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48720" y="10288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1800" y="102888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102888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304920"/>
            <a:ext cx="4686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7c80"/>
                </a:solidFill>
                <a:latin typeface="Times New Roman"/>
              </a:rPr>
              <a:t>- п</a:t>
            </a:r>
            <a:r>
              <a:rPr b="0" lang="ru-RU" sz="4400" spc="-1" strike="noStrike">
                <a:solidFill>
                  <a:srgbClr val="ff7c80"/>
                </a:solidFill>
                <a:latin typeface="Times New Roman"/>
              </a:rPr>
              <a:t>ять в одно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18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odetic Information System v.5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sshelkovnikov@yahoo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Times New Roman"/>
              </a:rPr>
              <a:t>Краткий обз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066680"/>
            <a:ext cx="541008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ы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яются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е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трёхмерном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рении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,Y,H)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ка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расстояния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ми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считывает автоматически.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ность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я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чётов определяется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ками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ы.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Система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втоматически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еряет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рректность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ваемых данных при вводе высот и линейных промеров с учётом допусков.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разования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ординат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смотрен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лый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й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ющий: смещать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ординаты,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ртировать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ы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круг центра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ножества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чек.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,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учную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и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орта из программ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View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орматы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f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z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Excel, Mapinfo, Инвент-Град, Prism,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htech Solution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rt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т.п.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Экспорт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в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rcInfo,  ArcView,  Prism,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нт-Град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rt, Wmf,  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</a:rPr>
              <a:t>формат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</a:rPr>
              <a:t>для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owerSet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Все   отчётные   формы просматриваются  перед  печатью.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о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ся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и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го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полнения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достающих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зловых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ек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полнению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нных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ничащих землепользователях при анализе смежных участков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image016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391520" y="3581280"/>
            <a:ext cx="0" cy="457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18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odetic Information System v.5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image017" descr=""/>
          <p:cNvPicPr/>
          <p:nvPr/>
        </p:nvPicPr>
        <p:blipFill>
          <a:blip r:embed="rId2"/>
          <a:stretch/>
        </p:blipFill>
        <p:spPr>
          <a:xfrm>
            <a:off x="6019920" y="43434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shelkovnikov@yahoo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Регистрация прав на земл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952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епользовате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обственни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ем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ельн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аст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емельны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хозяйствен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ройст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емельных участков (двор, угодья, сооружения, здания) вместе с координат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вен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сти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емельных участков вместе с координатам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ач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сударственных актов и договоров аренд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ельн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аст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тут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ладн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нежная оценка сельскохозяйственных угод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ект паевания с/х угод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image003" descr=""/>
          <p:cNvPicPr/>
          <p:nvPr/>
        </p:nvPicPr>
        <p:blipFill>
          <a:blip r:embed="rId1"/>
          <a:stretch/>
        </p:blipFill>
        <p:spPr>
          <a:xfrm>
            <a:off x="5867280" y="11430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80" name="image005" descr=""/>
          <p:cNvPicPr/>
          <p:nvPr/>
        </p:nvPicPr>
        <p:blipFill>
          <a:blip r:embed="rId2"/>
          <a:stretch/>
        </p:blipFill>
        <p:spPr>
          <a:xfrm>
            <a:off x="5867280" y="3276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0"/>
            <a:ext cx="18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odetic Information System v.5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54100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стем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я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удалённы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онов и наоборо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давать. Данные принимают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ледующей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тность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нес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дастрову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нны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государственных актов или договоров на земельные участ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shelkovnikov@yahoo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33ff"/>
                </a:solidFill>
                <a:latin typeface="Times New Roman"/>
              </a:rPr>
              <a:t>Проектирование и паевание с</a:t>
            </a:r>
            <a:r>
              <a:rPr b="0" lang="en-US" sz="3800" spc="-1" strike="noStrike">
                <a:solidFill>
                  <a:srgbClr val="3333ff"/>
                </a:solidFill>
                <a:latin typeface="Times New Roman"/>
              </a:rPr>
              <a:t>/</a:t>
            </a:r>
            <a:r>
              <a:rPr b="0" lang="ru-RU" sz="3800" spc="-1" strike="noStrike">
                <a:solidFill>
                  <a:srgbClr val="3333ff"/>
                </a:solidFill>
                <a:latin typeface="Times New Roman"/>
              </a:rPr>
              <a:t>х угодий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8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odetic Information System v.5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066680"/>
            <a:ext cx="861048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IS v.5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 позволяет проводить паевание всего хозяйства с точностью до 1-й гривны. С этой целью система  позволяет провести полный анализ  перед  паеванием, для того чтобы учесть не только грунты, уклоны но и проектные дорог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стем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производить раздел участк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учную и автоматически по заданным критериям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 критериям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разумеваетс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 разреза земельного участка, смещение разреза, расстояние смещения, площадь отрезаемой части участка, количества собственник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и паевании)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реза можно ввести вручную или программа просчитает ег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и по заданным двум координатам. Смещение также можно ввести вручную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втоматическ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здела по заданной площади, количеств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бственник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ектировани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г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стем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функцию разреза участка заданным участком или по заданным двум координата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image007" descr=""/>
          <p:cNvPicPr/>
          <p:nvPr/>
        </p:nvPicPr>
        <p:blipFill>
          <a:blip r:embed="rId1"/>
          <a:stretch/>
        </p:blipFill>
        <p:spPr>
          <a:xfrm>
            <a:off x="380880" y="44956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88" name="image009" descr=""/>
          <p:cNvPicPr/>
          <p:nvPr/>
        </p:nvPicPr>
        <p:blipFill>
          <a:blip r:embed="rId2"/>
          <a:stretch/>
        </p:blipFill>
        <p:spPr>
          <a:xfrm>
            <a:off x="6019920" y="4495680"/>
            <a:ext cx="2754360" cy="2068560"/>
          </a:xfrm>
          <a:prstGeom prst="rect">
            <a:avLst/>
          </a:prstGeom>
          <a:ln w="0">
            <a:noFill/>
          </a:ln>
        </p:spPr>
      </p:pic>
      <p:pic>
        <p:nvPicPr>
          <p:cNvPr id="89" name="image015" descr=""/>
          <p:cNvPicPr/>
          <p:nvPr/>
        </p:nvPicPr>
        <p:blipFill>
          <a:blip r:embed="rId3"/>
          <a:stretch/>
        </p:blipFill>
        <p:spPr>
          <a:xfrm>
            <a:off x="3200400" y="449568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shelkovnikov@yahoo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Камеральные раб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219320"/>
            <a:ext cx="556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стем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ножеств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й дл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образов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и  вычисл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ординат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этот перечень  входит:  вычисление   координат   полярным способом,  прямой  угловой  засечки,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щ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и, параллельн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нии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ечения, редуцировани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иса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мещ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зис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 изменение координат     на     заданную     величину,    сортировка координат по контуру поля. Существует отработанная схема   отбора    и   сброса   координат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P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нный и электронного  тахеометра. Присутствует  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можность построе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гментов или корректирование участка п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ны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у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м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а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стояниям. Пользовательско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браж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е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ке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от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б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нтре смотровог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штабе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чёт расстояния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рагментов участка при помощи мыш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image014" descr=""/>
          <p:cNvPicPr/>
          <p:nvPr/>
        </p:nvPicPr>
        <p:blipFill>
          <a:blip r:embed="rId1"/>
          <a:stretch/>
        </p:blipFill>
        <p:spPr>
          <a:xfrm>
            <a:off x="6095880" y="12952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94" name="image018" descr=""/>
          <p:cNvPicPr/>
          <p:nvPr/>
        </p:nvPicPr>
        <p:blipFill>
          <a:blip r:embed="rId2"/>
          <a:stretch/>
        </p:blipFill>
        <p:spPr>
          <a:xfrm>
            <a:off x="6095880" y="38862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0"/>
            <a:ext cx="18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odetic Information System v.5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shelkovnikov@yahoo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Формирование документ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1066680"/>
            <a:ext cx="845820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s v.5.0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сматривать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овать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чётные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ы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отдельными так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отмеченными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ками. Все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ения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могут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ть показаны или спрятаны по желанию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еля. Под обозначениями подразумевается линии,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ры,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ра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ек,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межные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лки,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нутрихозяйственное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ройство участка, смежные участки, номера смежных участков, площадь, цветные линии смежеств и т.п. Кроме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отра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ных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штабах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грамма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усматривает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отр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увеличенным и уменьшенным изображением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2895480"/>
            <a:ext cx="845820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</a:rPr>
              <a:t>система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считывает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возможных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чётных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.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т перечень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ят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сударственные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кты,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овора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енды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рагменты всевозможной технической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кументации,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ы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ия,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я,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исания границ, планы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ков,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иски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п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чат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ь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чётных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 как по одному так и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тмеченным земельным участкам, а также поддерживается режим печати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plex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image012" descr=""/>
          <p:cNvPicPr/>
          <p:nvPr/>
        </p:nvPicPr>
        <p:blipFill>
          <a:blip r:embed="rId1"/>
          <a:stretch/>
        </p:blipFill>
        <p:spPr>
          <a:xfrm>
            <a:off x="380880" y="4495680"/>
            <a:ext cx="2754360" cy="2068560"/>
          </a:xfrm>
          <a:prstGeom prst="rect">
            <a:avLst/>
          </a:prstGeom>
          <a:ln w="0">
            <a:noFill/>
          </a:ln>
        </p:spPr>
      </p:pic>
      <p:pic>
        <p:nvPicPr>
          <p:cNvPr id="101" name="image019" descr=""/>
          <p:cNvPicPr/>
          <p:nvPr/>
        </p:nvPicPr>
        <p:blipFill>
          <a:blip r:embed="rId2"/>
          <a:stretch/>
        </p:blipFill>
        <p:spPr>
          <a:xfrm>
            <a:off x="6095880" y="44956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2" name="image020" descr=""/>
          <p:cNvPicPr/>
          <p:nvPr/>
        </p:nvPicPr>
        <p:blipFill>
          <a:blip r:embed="rId3"/>
          <a:stretch/>
        </p:blipFill>
        <p:spPr>
          <a:xfrm>
            <a:off x="3257640" y="449568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0"/>
            <a:ext cx="18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odetic Information System v.5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shelkovnikov@yahoo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Times New Roman"/>
              </a:rPr>
              <a:t>Денежная оценка </a:t>
            </a:r>
            <a:r>
              <a:rPr b="0" lang="uk-UA" sz="4400" spc="-1" strike="noStrike">
                <a:solidFill>
                  <a:srgbClr val="3333ff"/>
                </a:solidFill>
                <a:latin typeface="Times New Roman"/>
              </a:rPr>
              <a:t>с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/</a:t>
            </a:r>
            <a:r>
              <a:rPr b="0" lang="ru-RU" sz="4400" spc="-1" strike="noStrike">
                <a:solidFill>
                  <a:srgbClr val="3333ff"/>
                </a:solidFill>
                <a:latin typeface="Times New Roman"/>
              </a:rPr>
              <a:t>х угод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18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odetic Information System v.5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image013" descr=""/>
          <p:cNvPicPr/>
          <p:nvPr/>
        </p:nvPicPr>
        <p:blipFill>
          <a:blip r:embed="rId1"/>
          <a:stretch/>
        </p:blipFill>
        <p:spPr>
          <a:xfrm>
            <a:off x="3200400" y="44197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8" name="image007" descr=""/>
          <p:cNvPicPr/>
          <p:nvPr/>
        </p:nvPicPr>
        <p:blipFill>
          <a:blip r:embed="rId2"/>
          <a:stretch/>
        </p:blipFill>
        <p:spPr>
          <a:xfrm>
            <a:off x="304920" y="44197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9" name="image021" descr=""/>
          <p:cNvPicPr/>
          <p:nvPr/>
        </p:nvPicPr>
        <p:blipFill>
          <a:blip r:embed="rId3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4920" y="1143000"/>
            <a:ext cx="8458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чиная с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S v.5.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присоединён   модуль  просчёта среднего бала бонитета  по  хозяйству  и   просчёт   стоимости   угодий  по  данным  балов дифференциального        дохода        агрогрупп.       Удобный        интерфейс проектирования дорог,           позволяющий           произвести          паевание сельскохозяйственных   угодий   с   точностью    до    1-й гривны.   Система позволяет производить  расчёт   по   всем   категориям   угодий.   Возможен анализ как по агрогруппам  так  и  по  уклонам.  Множество отчётных форм позволяющие проанализировать  хозяйство  как по агрогруппам и контурам в разрезе  угодий  так  и  в  целом.  Добавлена   печать  уточнённого расчёта денежной оценки сельскохозяйственных угод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43800" y="662940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shelkovnikov@yahoo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2:05:57Z</dcterms:created>
  <dc:creator>Sergio</dc:creator>
  <dc:description/>
  <dc:language>en-US</dc:language>
  <cp:lastModifiedBy>Sergio</cp:lastModifiedBy>
  <dcterms:modified xsi:type="dcterms:W3CDTF">2002-02-27T14:26:13Z</dcterms:modified>
  <cp:revision>15</cp:revision>
  <dc:subject/>
  <dc:title>Geodetic Information System v.5.0</dc:title>
</cp:coreProperties>
</file>