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C7C8-6B23-449C-8737-810935C9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965-09D8-4C55-BE4D-AA2A998B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BC2-DF5D-434E-9348-DC0D72F9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526F-0DEA-4D68-8FB2-5DCFAC9BF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988E-6EDB-4246-8DC7-8F9891B7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8DB2-DE0A-4490-B60F-7CEE1696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3C74-F8B8-44A3-A8C0-590CEE2B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2CFE-43B8-4A02-8611-EF1915B8D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52CE-414B-41A2-93A8-C7946632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74EE-5E6D-4118-A7A4-887FCB0C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354E-44E8-4525-BB49-E930B276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BDA5-0C03-435D-B060-30BDADE0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A946-284B-4DB2-8FA2-D87C0A0B34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hyperlink" Target="https://www.gis.org.ua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402160" cy="431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Инсталля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Instal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957400" y="2062080"/>
            <a:ext cx="3229200" cy="2733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.S. English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нажм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k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357336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1.11111E-006 L 0.03351 0.14236 E">
                                      <p:cBhvr>
                                        <p:cTn id="33" dur="1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347920" y="1728720"/>
            <a:ext cx="4448160" cy="34005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Finish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92720" y="494172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421000"/>
            <a:ext cx="10764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428840" y="1328760"/>
            <a:ext cx="6286320" cy="51246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лечь содержимое архива в текущий катало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5280" y="3213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станов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lock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ключ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p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b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рт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428920" y="2171880"/>
            <a:ext cx="4286160" cy="338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333440" y="1641600"/>
            <a:ext cx="6477120" cy="4019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уск про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796000" y="270828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авьте инсталляционны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-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600360" cy="26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276720" y="385920"/>
          <a:ext cx="300816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85920"/>
                    <a:ext cx="300816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684360" y="5805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ttp://www.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-mail: manager@gis.org.ua, admin@gis.org.ua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l. +38 (050) 597-00-7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4360" y="6381720"/>
            <a:ext cx="822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Geodetic Information System v.5.1</a:t>
            </a:r>
            <a:br>
              <a:rPr sz="600"/>
            </a:b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Copyright© 2002-2003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4360" y="5229360"/>
            <a:ext cx="8229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b2b2b2"/>
                </a:solidFill>
                <a:latin typeface="Arial"/>
              </a:rPr>
              <a:t>ПРОИЗВОДСТВО ИНФОРМАЦИОННЫХ 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3"/>
          </p:cNvPr>
          <p:cNvSpPr/>
          <p:nvPr/>
        </p:nvSpPr>
        <p:spPr>
          <a:xfrm>
            <a:off x="684360" y="4437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w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ww.</a:t>
            </a:r>
            <a:r>
              <a:rPr b="0" lang="ru-RU" sz="7000" spc="-1" strike="noStrike">
                <a:solidFill>
                  <a:srgbClr val="b2b2b2"/>
                </a:solidFill>
                <a:latin typeface="Times New Roman"/>
              </a:rPr>
              <a:t>GIS</a:t>
            </a:r>
            <a:r>
              <a:rPr b="0" lang="ru-RU" sz="4000" spc="-1" strike="noStrike">
                <a:solidFill>
                  <a:srgbClr val="b2b2b2"/>
                </a:solidFill>
                <a:latin typeface="Times New Roman"/>
              </a:rPr>
              <a:t>.org.u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жид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24000" y="1916280"/>
            <a:ext cx="4800600" cy="36097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79640" y="141300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39566 0.57292 E">
                                      <p:cBhvr>
                                        <p:cTn id="15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ерите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accept 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5445000"/>
            <a:ext cx="10764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2.22222E-006 L -0.32083 -0.09908 E">
                                      <p:cBhvr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71640" y="473544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0.00069 L 0.2816 0.09977 E">
                                      <p:cBhvr>
                                        <p:cTn id="27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171880" y="205740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508720" y="5445000"/>
            <a:ext cx="108000" cy="20664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71880" y="1623960"/>
            <a:ext cx="4800600" cy="3610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жмит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Ne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80000" y="5013360"/>
            <a:ext cx="108000" cy="206280"/>
          </a:xfrm>
          <a:custGeom>
            <a:avLst/>
            <a:gdLst/>
            <a:ahLst/>
            <a:rect l="l" t="t" r="r" b="b"/>
            <a:pathLst>
              <a:path w="68" h="130">
                <a:moveTo>
                  <a:pt x="1" y="100"/>
                </a:moveTo>
                <a:lnTo>
                  <a:pt x="0" y="0"/>
                </a:lnTo>
                <a:lnTo>
                  <a:pt x="68" y="67"/>
                </a:lnTo>
                <a:lnTo>
                  <a:pt x="35" y="67"/>
                </a:lnTo>
                <a:lnTo>
                  <a:pt x="59" y="124"/>
                </a:lnTo>
                <a:lnTo>
                  <a:pt x="45" y="130"/>
                </a:lnTo>
                <a:lnTo>
                  <a:pt x="20" y="72"/>
                </a:lnTo>
                <a:lnTo>
                  <a:pt x="1" y="1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08:08:15Z</dcterms:created>
  <dc:creator>Sergio</dc:creator>
  <dc:description/>
  <dc:language>en-US</dc:language>
  <cp:lastModifiedBy>Sergio</cp:lastModifiedBy>
  <dcterms:modified xsi:type="dcterms:W3CDTF">2005-03-26T08:49:10Z</dcterms:modified>
  <cp:revision>9</cp:revision>
  <dc:subject/>
  <dc:title>Инструкция по инсталляции</dc:title>
</cp:coreProperties>
</file>