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DCD-1CFD-4A86-99FB-2BBC2883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2334-CAE0-4B35-A415-0271AB84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4A52-0C15-4177-AD8E-75A09584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D1A6-C999-420A-AF71-AD6FB07B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858-6260-478D-8D78-DB5266C5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9A9D-AA5F-464E-A3C9-87C18F7F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4209-911F-4909-BB2C-DEBA8F00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5CDB-EF51-4C76-89C4-238FB82C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88A-BB6F-4432-A3B8-E4DE126C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094-0417-4991-856B-5199AD5F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8CE-56DF-4D7C-92D1-92B8113E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171D-8602-423B-95E8-B103EF72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23C3-ACCF-4C9B-8F4A-43D676DEF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is5Book1" descr=""/>
          <p:cNvPicPr/>
          <p:nvPr/>
        </p:nvPicPr>
        <p:blipFill>
          <a:blip r:embed="rId1"/>
          <a:stretch/>
        </p:blipFill>
        <p:spPr>
          <a:xfrm>
            <a:off x="4800600" y="609480"/>
            <a:ext cx="4019400" cy="5667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251460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смотр всех участков в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S v.5.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cToGis4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rcToGis4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rcToGis4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rcToGis4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cToGis4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rcToGis47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rcToGis4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533520"/>
            <a:ext cx="822960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Gis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.5.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ображение всех участков происходит отмеченным земельным участк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д просмотром рекомендую пересчитать площадь для всех участко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это ещё не сделано ранее (к примеру, после импорта и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View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3:35:07Z</dcterms:created>
  <dc:creator>Sergio</dc:creator>
  <dc:description/>
  <dc:language>en-US</dc:language>
  <cp:lastModifiedBy>Sergio</cp:lastModifiedBy>
  <dcterms:modified xsi:type="dcterms:W3CDTF">2002-06-18T14:19:44Z</dcterms:modified>
  <cp:revision>7</cp:revision>
  <dc:subject/>
  <dc:title>Геодезическая  информационная система  v.5.0.1</dc:title>
</cp:coreProperties>
</file>